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F429-7D00-4724-82DA-F5451629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EC4-471B-43E8-B5BB-18F53CC7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931-5DDE-4F52-8D6F-35A51F6F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FCE-96A6-4DD5-AFF1-534327FD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21A-9801-4FE5-81C8-8272401D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780-6394-468D-B745-BE741FF3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FE8-1BA5-4E62-89B8-57348BDF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886-054A-4D70-89D0-A03F99FC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FB5-B71A-4624-B67C-216F07CE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FBD-E250-4AE1-BE1B-B68B1EB9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AC9-238D-4BF4-9E31-3371BEF9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ACE-1658-4836-8BB6-936E9947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D804-B45D-409C-93C0-5F606852D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der Willi and Angel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inherit a nonimprinted gene on the father's chromosome #15 causes a human congenital disorder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der-Willi syndr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inherit one nonimprinted gen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BE3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n the mother's chromosome #15 cau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elman syndr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Angelman Syndrome Poster Child"/>
          <p:cNvPicPr/>
          <p:nvPr/>
        </p:nvPicPr>
        <p:blipFill>
          <a:blip r:embed="rId1"/>
          <a:stretch/>
        </p:blipFill>
        <p:spPr>
          <a:xfrm>
            <a:off x="5334120" y="2438280"/>
            <a:ext cx="2738160" cy="335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114300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ma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3481560" cy="358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8380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der WIlli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29000" y="1905120"/>
            <a:ext cx="1943280" cy="270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57600" y="1905120"/>
            <a:ext cx="1762200" cy="2685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3808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rnal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7621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57913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nal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486040" y="4876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19520" y="1905120"/>
            <a:ext cx="354312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33920" y="3049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A” gene is silence on all paternal chromosomes, while the “B” gene is silenced on all maternal chromoso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819520" y="1905120"/>
            <a:ext cx="3581280" cy="264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876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this child lives their life with what phenoty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581280" cy="2648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3880" y="5335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is child is old enough to become a father. In each of his sperm cells…The old imprints are remo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3371760" cy="262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50292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spermatogium go through meiosis to form four haploid sperm cells…that look like the follow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362320" y="1981080"/>
            <a:ext cx="3438360" cy="271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286000" y="1981080"/>
            <a:ext cx="3753000" cy="2724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58672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mprints are then added…Upon which allele do the imprints get added because we are dealing with a FATHER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286000" y="1981080"/>
            <a:ext cx="3724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95280" y="3049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the original chromosome was a gir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571920" cy="2695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3381480" cy="2657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666880" y="2133720"/>
            <a:ext cx="3476880" cy="2714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43000" y="12193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iosis occur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990720" y="2057400"/>
            <a:ext cx="1609560" cy="2666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324480" y="2133720"/>
            <a:ext cx="1676520" cy="2752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51055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mprints are put on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2666880" y="2057400"/>
            <a:ext cx="3486240" cy="2714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90720" y="2057400"/>
            <a:ext cx="1695240" cy="2685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6324480" y="2133720"/>
            <a:ext cx="17622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boy meets girl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724560" cy="272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29200" y="838080"/>
            <a:ext cx="3657600" cy="279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480" y="838080"/>
            <a:ext cx="3733920" cy="2828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029200" y="838080"/>
            <a:ext cx="3733920" cy="2828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666880" y="4143240"/>
            <a:ext cx="3591000" cy="2714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0" y="36576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5520" y="37339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0:26:01Z</dcterms:created>
  <dc:creator>NPSD</dc:creator>
  <dc:description/>
  <dc:language>en-US</dc:language>
  <cp:lastModifiedBy>NPSD</cp:lastModifiedBy>
  <dcterms:modified xsi:type="dcterms:W3CDTF">2009-03-30T17:33:41Z</dcterms:modified>
  <cp:revision>5</cp:revision>
  <dc:subject/>
  <dc:title>Slide 1</dc:title>
</cp:coreProperties>
</file>